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4ED2-2329-45EA-BDCF-B0D3E7DB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DA75-AD53-4F6C-A811-BEABBDA7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EFA4-55CA-46B8-84F7-B5CE6B3F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C9D5-1832-4BD8-B11C-128A8921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56EE-C79C-4DFD-B793-E3224CAD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4DE8-C249-431A-8070-210CDFAD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ACD5-0F63-4644-AE67-8D560243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4D2D-4BF3-4613-86B8-0EE58027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E061-0341-47C8-8477-5FF79088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589-50FB-455D-A4A9-15B72025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B65F-52A6-4EEC-ABEE-21E8306E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DDB7-FB99-412B-8D01-29DFFE5B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8E04-952C-480E-8296-DE1A3CC43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lipika_chopra@yahoo.co.in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hisbul pic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4" name="Rectangle 11"/>
          <p:cNvSpPr/>
          <p:nvPr/>
        </p:nvSpPr>
        <p:spPr>
          <a:xfrm>
            <a:off x="5867280" y="7238160"/>
            <a:ext cx="19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PIKA CHO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2666880" y="609480"/>
            <a:ext cx="3124440" cy="990720"/>
          </a:xfrm>
          <a:prstGeom prst="rect">
            <a:avLst/>
          </a:prstGeom>
          <a:gradFill rotWithShape="0">
            <a:gsLst>
              <a:gs pos="0">
                <a:srgbClr val="703d16"/>
              </a:gs>
              <a:gs pos="100000">
                <a:srgbClr val="341c0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LIPIKA CHO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304920" y="1981080"/>
            <a:ext cx="8229600" cy="4572000"/>
          </a:xfrm>
          <a:prstGeom prst="rect">
            <a:avLst/>
          </a:prstGeom>
          <a:gradFill rotWithShape="0">
            <a:gsLst>
              <a:gs pos="0">
                <a:srgbClr val="341c0a"/>
              </a:gs>
              <a:gs pos="100000">
                <a:srgbClr val="703d1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RY-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-ST.MARKS GIRLS SR.SECONDAR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S-INTERNET SURFING AND LISTENING S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URITE SUBJECTS-HISTORY AND M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 ID-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pika_chopra@yahoo.co.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D TO BE A PART OF THIS PROJECT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clip_image003.jpg"/>
          <p:cNvPicPr/>
          <p:nvPr/>
        </p:nvPicPr>
        <p:blipFill>
          <a:blip r:embed="rId3"/>
          <a:stretch/>
        </p:blipFill>
        <p:spPr>
          <a:xfrm>
            <a:off x="533520" y="2057400"/>
            <a:ext cx="1419120" cy="1019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New -AECLogo_Medium"/>
          <p:cNvPicPr/>
          <p:nvPr/>
        </p:nvPicPr>
        <p:blipFill>
          <a:blip r:embed="rId4"/>
          <a:stretch/>
        </p:blipFill>
        <p:spPr>
          <a:xfrm>
            <a:off x="7010280" y="2057400"/>
            <a:ext cx="12574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0:40:28Z</dcterms:created>
  <dc:creator>X-ray</dc:creator>
  <dc:description/>
  <dc:language>en-US</dc:language>
  <cp:lastModifiedBy>Sumi</cp:lastModifiedBy>
  <dcterms:modified xsi:type="dcterms:W3CDTF">2010-01-29T13:01:23Z</dcterms:modified>
  <cp:revision>2</cp:revision>
  <dc:subject/>
  <dc:title>Slide 1</dc:title>
</cp:coreProperties>
</file>